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CFBA-8EEF-435E-8B48-B8DA1222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78C-7E6F-4E4D-B56F-6521F60F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C715-0719-4D12-9021-4CC9B9F1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60BB-EDBF-4D69-9A22-9226ADEA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D93E-4C5D-493A-88CD-C7DE1CE7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942-140D-4642-968F-8508317F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0C5D-C707-4121-9734-E5D42267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00A-934B-4866-BC9F-B4117C0C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4D82-6BFE-4CDA-834A-5B00CF51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ACA-76EC-450D-9AAC-A29C00DA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116-7234-49DF-8629-01E1F70F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07A7-EBF1-447C-8648-DD9425E2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9A3C-60DF-4E65-B8F7-C2A4C4CD2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2743200" cy="269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380880"/>
            <a:ext cx="81532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25751" dir="18900000" blurRad="0" rotWithShape="0">
                    <a:srgbClr val="00cc00"/>
                  </a:outerShdw>
                </a:effectLst>
                <a:latin typeface="Cooper Black"/>
              </a:rPr>
              <a:t>Microscope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25751" dir="18900000" blurRad="0" rotWithShape="0">
                  <a:srgbClr val="00cc00"/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81280" y="3429000"/>
            <a:ext cx="48006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25751" dir="18900000" blurRad="0" rotWithShape="0">
                    <a:srgbClr val="00cc00"/>
                  </a:outerShdw>
                </a:effectLst>
                <a:latin typeface="Cooper Black"/>
              </a:rPr>
              <a:t>Basics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25751" dir="18900000" blurRad="0" rotWithShape="0">
                  <a:srgbClr val="00cc00"/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24852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Trimpe 2005    http://sciencespot.ne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858000" cy="640728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914400" y="228600"/>
            <a:ext cx="7315200" cy="5638680"/>
            <a:chOff x="914400" y="228600"/>
            <a:chExt cx="7315200" cy="5638680"/>
          </a:xfrm>
        </p:grpSpPr>
        <p:grpSp>
          <p:nvGrpSpPr>
            <p:cNvPr id="47" name=""/>
            <p:cNvGrpSpPr/>
            <p:nvPr/>
          </p:nvGrpSpPr>
          <p:grpSpPr>
            <a:xfrm>
              <a:off x="914400" y="762120"/>
              <a:ext cx="1219320" cy="4394160"/>
              <a:chOff x="914400" y="762120"/>
              <a:chExt cx="1219320" cy="4394160"/>
            </a:xfrm>
          </p:grpSpPr>
          <p:sp>
            <p:nvSpPr>
              <p:cNvPr id="48" name=""/>
              <p:cNvSpPr/>
              <p:nvPr/>
            </p:nvSpPr>
            <p:spPr>
              <a:xfrm>
                <a:off x="1066680" y="76212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066680" y="190512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990720" y="243828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90720" y="365760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90720" y="411480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4400" y="477504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6781680" y="228600"/>
              <a:ext cx="1447920" cy="5638680"/>
              <a:chOff x="6781680" y="228600"/>
              <a:chExt cx="1447920" cy="5638680"/>
            </a:xfrm>
          </p:grpSpPr>
          <p:sp>
            <p:nvSpPr>
              <p:cNvPr id="55" name=""/>
              <p:cNvSpPr/>
              <p:nvPr/>
            </p:nvSpPr>
            <p:spPr>
              <a:xfrm>
                <a:off x="7010280" y="22860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86600" y="213372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62920" y="327672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781680" y="3733920"/>
                <a:ext cx="10670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58000" y="4419720"/>
                <a:ext cx="106668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162920" y="5257800"/>
                <a:ext cx="106668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609480" y="685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400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8720" y="3568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Cl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960" y="4673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152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733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rse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4511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28600" y="5372280"/>
            <a:ext cx="8432640" cy="1320480"/>
            <a:chOff x="228600" y="5372280"/>
            <a:chExt cx="8432640" cy="1320480"/>
          </a:xfrm>
        </p:grpSpPr>
        <p:sp>
          <p:nvSpPr>
            <p:cNvPr id="72" name=""/>
            <p:cNvSpPr/>
            <p:nvPr/>
          </p:nvSpPr>
          <p:spPr>
            <a:xfrm>
              <a:off x="228600" y="5867280"/>
              <a:ext cx="6019920" cy="825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ways carry a microscope with one hand holding th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r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nd one hand under th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61040" y="53722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00040" y="4064040"/>
            <a:ext cx="3505320" cy="660240"/>
            <a:chOff x="500040" y="4064040"/>
            <a:chExt cx="3505320" cy="660240"/>
          </a:xfrm>
        </p:grpSpPr>
        <p:sp>
          <p:nvSpPr>
            <p:cNvPr id="75" name=""/>
            <p:cNvSpPr/>
            <p:nvPr/>
          </p:nvSpPr>
          <p:spPr>
            <a:xfrm>
              <a:off x="533520" y="406404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aphrag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0040" y="4419720"/>
              <a:ext cx="3505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304920"/>
            <a:ext cx="853452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’s my po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culate the power of magnificatio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cular le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1914480" cy="2590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38080" y="2641680"/>
            <a:ext cx="533520" cy="53316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14787" t="16483" r="45259" b="6929"/>
          <a:stretch/>
        </p:blipFill>
        <p:spPr>
          <a:xfrm>
            <a:off x="1676520" y="2209680"/>
            <a:ext cx="2666880" cy="3829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349360" y="3733920"/>
            <a:ext cx="533520" cy="53316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70760" y="400356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2590920"/>
            <a:ext cx="3809880" cy="247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powers of magnification for each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bjectives we have on our microscop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table 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worksh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304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ring Powers of Mag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70760" y="400356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14400" y="1066680"/>
            <a:ext cx="7620120" cy="1706400"/>
            <a:chOff x="914400" y="1066680"/>
            <a:chExt cx="7620120" cy="17064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914400" y="1066680"/>
              <a:ext cx="213372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048120" y="132516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 can see better details with higher the powers of magnification, but we cannot see as much of the imag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19040" y="3124080"/>
            <a:ext cx="8191440" cy="3143520"/>
            <a:chOff x="419040" y="3124080"/>
            <a:chExt cx="8191440" cy="314352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3848040" y="3124080"/>
              <a:ext cx="4762440" cy="31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19040" y="3919680"/>
              <a:ext cx="3276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ich of these images would be viewed at a higher power of magnificatio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’s give it a tr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760" y="1143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 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microscope and then rotate the nosepiece to click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d-banded obj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760" y="21034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Place a slide on the stage and secure it using the stage clips. Us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arse adjustment kn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arge knob) to get it the image into view and then us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e adjustment kn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mall knob) to make it clear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6545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– When you are done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 o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microscope and put up the slides you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66760" y="3733920"/>
            <a:ext cx="8610480" cy="1785960"/>
            <a:chOff x="266760" y="3733920"/>
            <a:chExt cx="8610480" cy="1785960"/>
          </a:xfrm>
        </p:grpSpPr>
        <p:sp>
          <p:nvSpPr>
            <p:cNvPr id="97" name=""/>
            <p:cNvSpPr/>
            <p:nvPr/>
          </p:nvSpPr>
          <p:spPr>
            <a:xfrm>
              <a:off x="266760" y="3733920"/>
              <a:ext cx="861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– Once you have the image in view, rotate the nosepiece to view it under different powers. Draw what you see on your worksheet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4694400"/>
              <a:ext cx="7238880" cy="825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 careful with the largest objective!  Sometimes there is not enough room and you will not be able to use it!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125280"/>
            <a:ext cx="8534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make a wet-mount slid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Get a clean slide and coverslip from your tea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Pla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rop of water in the middle of the slide.  Don’t use too much or the water will run off the edge and make a m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Place the edge of the cover slip on one side of the water dr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28600" y="4572000"/>
            <a:ext cx="8534520" cy="1984320"/>
            <a:chOff x="228600" y="4572000"/>
            <a:chExt cx="8534520" cy="1984320"/>
          </a:xfrm>
        </p:grpSpPr>
        <p:sp>
          <p:nvSpPr>
            <p:cNvPr id="101" name=""/>
            <p:cNvSpPr/>
            <p:nvPr/>
          </p:nvSpPr>
          <p:spPr>
            <a:xfrm>
              <a:off x="2133720" y="5730840"/>
              <a:ext cx="5105160" cy="825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ou do not need to use the stage clips when viewing wet-mount slides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600" y="4572000"/>
              <a:ext cx="853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– Place the slide on the stage and view it first with the red-banded objective. Once you see the image, you can rotate the nosepiece to view the slide with the different objectiv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8600" y="2727360"/>
            <a:ext cx="8534520" cy="1616040"/>
            <a:chOff x="228600" y="2727360"/>
            <a:chExt cx="8534520" cy="1616040"/>
          </a:xfrm>
        </p:grpSpPr>
        <p:sp>
          <p:nvSpPr>
            <p:cNvPr id="104" name=""/>
            <p:cNvSpPr/>
            <p:nvPr/>
          </p:nvSpPr>
          <p:spPr>
            <a:xfrm>
              <a:off x="228600" y="2727360"/>
              <a:ext cx="85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- Slowly lower the cover slip on top of the drop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133720" y="3352680"/>
              <a:ext cx="4572000" cy="990720"/>
              <a:chOff x="2133720" y="3352680"/>
              <a:chExt cx="4572000" cy="990720"/>
            </a:xfrm>
          </p:grpSpPr>
          <p:sp>
            <p:nvSpPr>
              <p:cNvPr id="106" name=""/>
              <p:cNvSpPr/>
              <p:nvPr/>
            </p:nvSpPr>
            <p:spPr>
              <a:xfrm>
                <a:off x="2133720" y="4267080"/>
                <a:ext cx="4572000" cy="76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3733920" y="3429000"/>
                <a:ext cx="83808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72000" y="3504960"/>
                <a:ext cx="3808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24360" y="4190760"/>
                <a:ext cx="990720" cy="76320"/>
              </a:xfrm>
              <a:prstGeom prst="flowChartTerminator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971800" y="3352680"/>
                <a:ext cx="106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ver Sl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76920" y="342900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Lower slowl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14:46:29Z</dcterms:created>
  <dc:creator>admin</dc:creator>
  <dc:description/>
  <dc:language>en-US</dc:language>
  <cp:lastModifiedBy>Tracy Trimpe</cp:lastModifiedBy>
  <dcterms:modified xsi:type="dcterms:W3CDTF">2008-09-23T23:27:00Z</dcterms:modified>
  <cp:revision>39</cp:revision>
  <dc:subject/>
  <dc:title>Microscope Basics</dc:title>
</cp:coreProperties>
</file>